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654-D83B-490B-A02A-0A82E2AA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454-24F6-488C-8B8E-87F7AEF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8A3-AB6F-4DD7-9825-2845032E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9EF-4405-4E59-A12C-2185F7EE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085E-A642-44CA-BAA9-EE9F1EA3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3CA-CE84-4996-8F86-9EF5415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FEE-D62C-476E-BBD9-9FAE201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6202-03B6-42F1-9699-8B223F0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161D-900D-497F-ABA1-DA4F10D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2FBC-B095-4CBE-9543-2DD606F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82B-8E94-4233-ACC0-00DD407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821-6CB8-448B-9C38-7F7AC378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B24-D325-4E59-AEEC-2C8A9A9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F0A-04A4-4E59-A473-D4F7A5F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EF1-9B47-4E7D-BE43-0B585AB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6679-9720-4E73-8CC7-E44EAD7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864-A70F-4271-B69F-DCFD6E09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7E85-9A96-4449-9B7A-D936EE71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8358-25B9-4C2B-BB40-C66979A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1F94-AD25-4E38-A3CF-2C6563B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85E4-9409-40CF-A667-279B8411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DB3D-43D1-4578-97EE-D6EED8F1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590-04DA-47FA-AE8F-982EF686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D764-CE2B-4440-872D-0E55FDA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D198-0D9E-4069-B61B-60E72733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C562-1DFF-440E-8643-5FF6605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6B52-5A8E-478F-9E25-4AAC0F1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A6B0-C7C8-43A0-B9BB-1A5325C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E2EA-E1E9-48AF-B8FA-F9640BDA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0D30-6D1E-449D-9279-48CE32A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73AD-3352-40FC-AFFD-1FF9DEE1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630F-90E8-4EB6-8EB2-7A1B9F9B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2409-9671-445E-BA50-2FF8ECF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BE4-7122-479D-BCF1-A8B725AB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9DA3-1AC7-4389-874D-B068EC71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66BE-7793-415E-8A45-C74A228F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7A47-36BA-4A3A-A31E-7873ED1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8B8C-9062-4301-B177-D0E5D9D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7A25-9370-418B-9A61-C3B8FA8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297F-861F-4C66-B2CE-E5614F2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8229-E359-4749-9CE3-E42016C5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9266-A22B-4EEB-8270-BC92E9F9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19FD-C2F7-4226-A2A5-669F52F5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D48B-75A9-4238-A617-1ADF6A5F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346-CD82-42A1-9853-E61A45BD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4539-DE00-4020-90B3-4582AED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F6DA1-6348-4B27-A6B3-4C65670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894E-8E3C-43CF-9F8B-A847E5D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CD0D-95E3-49C0-AFC4-20F53CBF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3684-42D8-4EEB-9CD2-7A37E4A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9F75-45CA-4603-BF05-61351B2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06C6-F870-4FBD-96C1-D042293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7FC1C-DED1-4684-A7E3-338A622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B447-FDCD-41B2-ABDF-312C22C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EBF38-39E4-45B8-A115-6D7D09BA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57A-DC14-4758-A99F-F94F272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C2096-1D0B-4697-82DD-D2B3843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64A0E-586B-4586-87DD-C2C8749B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73C4-CAFF-4BF5-84C0-3A0AB16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C4CE-137D-4F71-9869-E62F69D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1502-ECEF-4F55-9C18-245B02D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28F78-E65F-4621-B676-0197F10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6E49-6497-4DB9-B6C8-669D04D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3EE3-2E94-4B1F-AD7B-9454DE0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5105-3869-4038-8DFA-17C42C6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3851-655D-4E73-8A53-137A153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2D-7FB2-4161-AEDE-6011195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53F1-5DF6-4974-82C1-8B9FEB9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7C0A-C0A1-4EF7-9C20-50ACE1D4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EB3C-DB09-4712-AC57-B600C610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4F191-794E-4938-865C-35C018A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59ED-D754-445B-9794-5072D532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7CE2-C29D-4790-AEAD-316172C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CE02-8E9D-4844-BD3E-D8E6FC8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154FC-BCFA-45A1-879C-F056BBE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4B6B-D222-4CB9-B64B-ACCE753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65B2-FA52-41D3-ABF8-D38755E7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97B-C7C1-4362-820E-CBDD0C6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EDCC-050B-400E-94C4-4F081AE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F1DC-AA8D-4529-A914-22D0DDC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714A-B2D1-40E5-B763-CC5D5161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42F8-C925-482E-A703-5C7CE210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97CC-15C3-4525-A307-D9EDFA89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1E0-67FA-455A-9F56-0FF3955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686D-2206-43D2-8367-AB9F221E1E7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90DE-F576-4E69-84FC-719AA97950E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0884-E74D-4DA1-B3AE-5E3C6968142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14A2-7F85-4006-99EE-53C098FC016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5AED-1C41-403F-9961-283EAEB5EE9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067-40F0-40A0-9D90-88E5B863A19A}" type="slidenum"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DF64-252E-4677-B61E-1411D51AE52F}" type="slidenum"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galeon.hispavista.com/talleresproductivos/img/inca1&amp;imgrefurl=http://talleresproductivos.galeon.com/productos1902501.html&amp;usg=__wj-0CN3de4IFakcn7hT_SYLiwRE=&amp;h=720&amp;w=960&amp;sz=123&amp;hl=es&amp;start=3&amp;um=1&amp;tbnid=vra4Z7w_CWCyjM:&amp;tbnh=111&amp;tbnw=148&amp;prev=/images%3Fq%3Dtejidos%2Binca%26hl%3Des%26um%3D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1.bp.blogspot.com/_tTFdYezGXMQ/Sc004ZLACxI/AAAAAAAADYk/SJVvf9QHnOM/s400/DIOS-WIRACOCHA.jpg&amp;imgrefurl=http://diosesdelperu.blogspot.com/2005/03/wiracocha-el-creador-y-ordenador.html&amp;usg=__SNMWPj9f_kBU-fdiDIsgw4lc9ig=&amp;h=245&amp;w=319&amp;sz=25&amp;hl=es&amp;start=19&amp;um=1&amp;tbnid=JaSLK02LsN1S2M:&amp;tbnh=91&amp;tbnw=118&amp;prev=/images%3Fq%3Dwiracocha%26hl%3Des%26um%3D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infoperu.com/pics/raymi2002/0772inca.jpg&amp;imgrefurl=http://www.infoperu.com/es/view.php%3Flang%3Des%26p%3D108&amp;usg=__aPIu5bhJNuU4XMzNdhloYjL6WSU=&amp;h=549&amp;w=391&amp;sz=32&amp;hl=es&amp;start=1&amp;um=1&amp;tbnid=j4feziiG3DWk-M:&amp;tbnh=133&amp;tbnw=95&amp;prev=/images%3Fq%3Dinca%26hl%3Des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agenes.mailxmail.com/cursos/imagenes/7309_6_1.jpg&amp;imgrefurl=http://www.mailxmail.com/curso-cereales-producto-alimenticio-saludable/maiz&amp;usg=__IS5tFy13rz9pxmtE7g37RGGmDgc=&amp;h=480&amp;w=360&amp;sz=38&amp;hl=es&amp;start=2&amp;um=1&amp;tbnid=ZhCDB6kZ5YeoiM:&amp;tbnh=129&amp;tbnw=97&amp;prev=/images%3Fq%3Dmaiz%26hl%3Des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pe/imgres?imgurl=http://4.bp.blogspot.com/_E2BlrYybGU4/R5Czar1PxPI/AAAAAAAAAnY/hBUVVQgzcqk/s400/camote2.jpg&amp;imgrefurl=http://whywomencry.blogspot.com/2008/01/cure-for-dengue.html&amp;usg=__thgNE34tiARcHEtD9uwlFcW7VlI=&amp;h=312&amp;w=400&amp;sz=39&amp;hl=es&amp;start=11&amp;um=1&amp;tbnid=q6Ze-v3lMxs6oM:&amp;tbnh=97&amp;tbnw=124&amp;prev=/images%3Fq%3Dcamote%26hl%3Des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.pe/imgres?imgurl=http://www.lamolina.edu.pe/FACULTAD/ciencias/hidroponia/semillas/foto-pimiento-rojo-enza.jpg&amp;imgrefurl=http://www.lamolina.edu.pe/FACULTAD/ciencias/hidroponia/semillas/&amp;usg=__ZgRhBDvZA9fh2ivj0WNvARXrhto=&amp;h=1263&amp;w=946&amp;sz=627&amp;hl=es&amp;start=4&amp;um=1&amp;tbnid=k5rVbqFA9OQSUM:&amp;tbnh=150&amp;tbnw=112&amp;prev=/images%3Fq%3Dpimiento%26hl%3Des%26um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.pe/imgres?imgurl=http://lagranjadefraume.files.wordpress.com/2008/12/oct5-08-0062.jpg&amp;imgrefurl=http://lagranjadefraume.wordpress.com/about/&amp;usg=__CQMMyRcx9xcNz3ysuyD5-4YIXeE=&amp;h=1704&amp;w=2272&amp;sz=1449&amp;hl=es&amp;start=2&amp;um=1&amp;tbnid=RLQsJYkB410DzM:&amp;tbnh=112&amp;tbnw=150&amp;prev=/images%3Fq%3Dzapayo%26hl%3Des%26um%3D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profesorenlinea.cl/imagenUniversalH/incas005.jpg&amp;imgrefurl=http://www.profesorenlinea.cl/universalhistoria/Incas.htm&amp;usg=__Dk4C4krIs4SPowQwoNnSb-TydKg=&amp;h=592&amp;w=480&amp;sz=74&amp;hl=es&amp;start=1&amp;um=1&amp;tbnid=kHOki8v-D9Lx1M:&amp;tbnh=135&amp;tbnw=109&amp;prev=/images%3Fq%3Dinca:%2Bpolitico%26hl%3Des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pe/imgres?imgurl=http://peruantiguo.files.wordpress.com/2008/09/cuxirimay.jpg&amp;imgrefurl=http://peruantiguo.wordpress.com/2008/09/25/angelina-una-historia-de-pelicula/&amp;usg=__ECLdT0ZCvHw8NknOck_VCU7ye7c=&amp;h=575&amp;w=335&amp;sz=55&amp;hl=es&amp;start=3&amp;um=1&amp;tbnid=bx3iuyxn09hzGM:&amp;tbnh=134&amp;tbnw=78&amp;prev=/images%3Fq%3Dcoya,%2Besposa%2Bdel%2Binca%26hl%3Des%26um%3D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www.kutztown.edu/activities/clubs/geology/photos/Machu_Picc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1 Título" descr=""/>
          <p:cNvPicPr/>
          <p:nvPr/>
        </p:nvPicPr>
        <p:blipFill>
          <a:blip r:embed="rId2"/>
          <a:stretch/>
        </p:blipFill>
        <p:spPr>
          <a:xfrm>
            <a:off x="682560" y="0"/>
            <a:ext cx="736452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749cdc"/>
                </a:solidFill>
                <a:latin typeface="Century Gothic"/>
              </a:rPr>
              <a:t>Pintura</a:t>
            </a:r>
            <a:r>
              <a:rPr b="0" lang="es-ES" sz="3900" spc="-1" strike="noStrike">
                <a:solidFill>
                  <a:srgbClr val="749cdc"/>
                </a:solidFill>
                <a:latin typeface="Century Gothic"/>
              </a:rPr>
              <a:t>:</a:t>
            </a:r>
            <a:endParaRPr b="0" lang="en-US" sz="39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Hechos sobre mantos en piedra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- Vasijas de barro: podían ser pintadas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- Tejidos: pinturas  hechas sobre mantos de lana y uso de colores vivos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5" descr="inc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971720"/>
            <a:ext cx="464976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Religión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50920" y="1882800"/>
            <a:ext cx="4681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Máximo dios Inca: Wiracoch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ociedad politeísta. Sus dioses er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Inti (Dios Sol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Quilla (Diosa Luna)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Wiracocha/Pachacamac (Dioses protector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Villac Umo (Sumo Sacerdote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5" descr="DIOS-WIRACOCH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49360"/>
            <a:ext cx="3213000" cy="2477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inti-copia"/>
          <p:cNvPicPr/>
          <p:nvPr/>
        </p:nvPicPr>
        <p:blipFill>
          <a:blip r:embed="rId3"/>
          <a:stretch/>
        </p:blipFill>
        <p:spPr>
          <a:xfrm>
            <a:off x="5435640" y="378936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370400" cy="1414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www.vagamundos.net/v3.1/img/inca_mapa_expansion.jpg"/>
          <p:cNvPicPr/>
          <p:nvPr/>
        </p:nvPicPr>
        <p:blipFill>
          <a:blip r:embed="rId2"/>
          <a:stretch/>
        </p:blipFill>
        <p:spPr>
          <a:xfrm>
            <a:off x="0" y="1143000"/>
            <a:ext cx="578628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1 Título"/>
          <p:cNvSpPr/>
          <p:nvPr/>
        </p:nvSpPr>
        <p:spPr>
          <a:xfrm>
            <a:off x="4786200" y="214200"/>
            <a:ext cx="43578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5857920" y="18572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pital principal: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857920" y="314064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Sus limites abarcaron desde el sur de Colombia hasta el centro de Chile, Bolivia y Argentin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749cdc"/>
                </a:solidFill>
                <a:latin typeface="Century Gothic"/>
              </a:rPr>
              <a:t>Historia</a:t>
            </a:r>
            <a:endParaRPr b="0" lang="en-US" sz="51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9640" y="1844640"/>
            <a:ext cx="590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Los Incas, también llamados “Hijos del sol” era organizadamente una sociedad guerrera que vivía al suroeste de la Sierra del antiguo Perú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4" descr="0772in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4336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3133800" y="189000"/>
            <a:ext cx="34131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435280" y="1125000"/>
            <a:ext cx="346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Clasificada en 4 clases social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 Alta nobleza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Baja noblez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Artesanos y campesin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Sierv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members.fortunecity.es/historperu/histoperu/inca12.jpg"/>
          <p:cNvPicPr/>
          <p:nvPr/>
        </p:nvPicPr>
        <p:blipFill>
          <a:blip r:embed="rId2"/>
          <a:stretch/>
        </p:blipFill>
        <p:spPr>
          <a:xfrm>
            <a:off x="0" y="1500120"/>
            <a:ext cx="528624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357520" y="1499760"/>
            <a:ext cx="3786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Se organizaron en 4 provincias (suyos)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hinchay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onti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Anti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olla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http://1.bp.blogspot.com/_tTFdYezGXMQ/Sf4QBY3fOEI/AAAAAAAAEOQ/CKp1afDVIbw/s400/SUYOS-1.png"/>
          <p:cNvPicPr/>
          <p:nvPr/>
        </p:nvPicPr>
        <p:blipFill>
          <a:blip r:embed="rId1"/>
          <a:stretch/>
        </p:blipFill>
        <p:spPr>
          <a:xfrm>
            <a:off x="179280" y="166680"/>
            <a:ext cx="50720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Economía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303640" y="1916280"/>
            <a:ext cx="4535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Basados en la agricultura y la ganadería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Base de alimentos : maíz, zapallo, camote, pimiento, et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7309_6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220840" cy="29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amote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08640"/>
            <a:ext cx="2333880" cy="1825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foto-pimiento-rojo-enz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89000"/>
            <a:ext cx="2043360" cy="27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oct5-08-00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4437000"/>
            <a:ext cx="24116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Político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104560" y="1916280"/>
            <a:ext cx="493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acerdotes: ocupaban un sitio importante ante la cor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Inca: estuvo a cargo de la organización polític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sposa del Inca: Coy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incas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333360"/>
            <a:ext cx="2732040" cy="338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cuxirima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14680"/>
            <a:ext cx="19954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3213000" cy="1414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214960" y="714240"/>
            <a:ext cx="360504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entury Gothic"/>
              </a:rPr>
              <a:t>Arquitectura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e caracterizaban por las puertas y ventanas en forma de Trapeci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us templos  y palacios eran sencillos sin belleza ni esplendor pero de  gran resistenci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3" descr="http://www.artehistoria.jcyl.es/arte/jpg/AMT10031.jpg"/>
          <p:cNvPicPr/>
          <p:nvPr/>
        </p:nvPicPr>
        <p:blipFill>
          <a:blip r:embed="rId2"/>
          <a:stretch/>
        </p:blipFill>
        <p:spPr>
          <a:xfrm>
            <a:off x="0" y="1357200"/>
            <a:ext cx="5357880" cy="528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643360" y="475920"/>
            <a:ext cx="35002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Escultura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Trabajos en pied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Obras con formas geométricas</a:t>
            </a:r>
            <a:r>
              <a:rPr b="0" lang="es-E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Pintura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Se hacia sobre mantos en pied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Vasijas de barro: podían ser pintada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Tejidos: las pinturas se hacían sobre mantos de lana y usaban colores vino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http://admin.revistacuenca.com/imgrepositorio/REVISTA%20CUENCA%20NOVIEMBRE%202008/CARAS-ESCULTURAS-GIGANTES.gif"/>
          <p:cNvPicPr/>
          <p:nvPr/>
        </p:nvPicPr>
        <p:blipFill>
          <a:blip r:embed="rId1"/>
          <a:stretch/>
        </p:blipFill>
        <p:spPr>
          <a:xfrm>
            <a:off x="0" y="0"/>
            <a:ext cx="4788000" cy="3716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www.estudiosgeograficos.org/Fotos/El_Camino_Inca/05_Lima/03%20Pinturas%20rupestres%20de%20Poro%20Poro.jpg"/>
          <p:cNvPicPr/>
          <p:nvPr/>
        </p:nvPicPr>
        <p:blipFill>
          <a:blip r:embed="rId2"/>
          <a:stretch/>
        </p:blipFill>
        <p:spPr>
          <a:xfrm>
            <a:off x="0" y="3933720"/>
            <a:ext cx="5429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3:26:19Z</dcterms:created>
  <dc:creator>ALEJANDRO</dc:creator>
  <dc:description/>
  <dc:language>en-US</dc:language>
  <cp:lastModifiedBy>ALEJANDRO</cp:lastModifiedBy>
  <dcterms:modified xsi:type="dcterms:W3CDTF">2009-11-12T00:12:59Z</dcterms:modified>
  <cp:revision>13</cp:revision>
  <dc:subject/>
  <dc:title>Señorío Inca</dc:title>
</cp:coreProperties>
</file>